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CC0B-5016-4E42-BBCD-20F93625D84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DE1-7ADD-4008-BF84-621CE37E9C2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454-DDEB-4FEA-BA73-F6A0D3FF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08A-8C10-45C8-B036-4229E1B4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0B4-ACD1-4C7F-A011-881C96B2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5CD-B2F4-431F-B124-BBBBFAC3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300-93A5-486C-A562-604EAABF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284-959C-4B92-BB94-9E96EE9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7C5-9EA6-46E5-B649-0690B85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C30-9BC2-4B35-9828-1FAF37C8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93C-96A4-4704-A1E1-7B9650EB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82E-AE9D-480F-8D46-7142C03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625-692B-4C35-8BCC-65A9C55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006-2946-463F-A62F-AE564B1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9770-2C53-41DA-808D-C12C482C995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Üniversiteyi Kırıkkale'de okumu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Annemin çeyiz sandığını karıştırdım dü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meğe kimleri çağıracağız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Aklımdan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onu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geçiri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Mutlu mutlu yaşı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Onlar, yaşamı önlerine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Arial"/>
                <a:ea typeface="Courier New"/>
              </a:rPr>
              <a:t>katarl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erden yere vurdun be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nsızın haykıracağım sana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Annesini bulamayınca üzüldü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nnem bugün bizi bekler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Açıyorlar esmer avuçlarını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Arial"/>
              </a:rPr>
              <a:t>Al bir ata binmiş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5 TL'lik kumandayı bile naylonla koruyoru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Numaramı falan değiştirmed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Pamukkale’y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bir gezi düzenleyeceğiz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Senin için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dağları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dele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Vurulmuşum toprağına taşın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z tatilinde nereye gideceksi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vru ceylan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gibi kaç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28600">
            <a:solidFill>
              <a:srgbClr val="5399ff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Yazmışsın iki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Arial"/>
              </a:rPr>
              <a:t>satır mektup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16:16Z</dcterms:modified>
  <cp:revision>93</cp:revision>
  <dc:subject/>
  <dc:title>KONU 1</dc:title>
</cp:coreProperties>
</file>